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50920" y="907920"/>
            <a:ext cx="86421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ELHO NACIONAL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9ª REUNIÃO DA CÂMARA TÉCNICA DO PLANO  NACIONAL  DE 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scussão sobre a itemização dos Volumes IV e V do Plano Nacional de Recursos Hídrico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28000" y="6123960"/>
            <a:ext cx="2088000" cy="434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ubro/20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2060640"/>
            <a:ext cx="88567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6. AS METAS ESTABELEC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Metas são a quantificação do que se pretende realizar em um prazo estabele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rticuladas às diretrizes, e considerando a necessidade temporal associada ao tema abordado, as metas do PNRH deverão ser estabelecidas para os horizontes de 2007, 2011, 2015 e 2020 (emergenciais, de curto, médio e longo prazo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CONSIDERAÇÕES FI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Apontando a inter-relação das diretrizes e metas estabelecidos com aspectos relevantes e desafios identif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2108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OSTA DE ESTRUTURA E CONTEÚDO DO VOLUME 4: DIRETRIZES E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765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OSTA DE ESTRUTURA E CONTEÚDO DO VOLUME 5: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205000"/>
            <a:ext cx="8856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1. 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xtualiza o desenvolvimento do Volume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2. PLANOS, PROGRAMAS E AÇÕES EM AND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presenta os planos, programas e ações, atualmente em execução, relacionados à temática da água (referência, trabalho desenvolvido pela ANA, 2005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rnecerá subsídios para orientar o debate e a consolidação final dos programas e ações propostos para 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389680"/>
            <a:ext cx="835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3. PROGRAMAS PROP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junto de ações e programas do Plano Nacional de Recursos Hídricos, ressaltando, em sua concepção, os fundamentos da integração e da descentralização, notadamente no que tange à divisão de competências e a articulação entre o Plano Nacional, os Planos Estaduais e os Planos de Bacia Hidrográ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sitos d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stentabilidad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 as ações e programas - operacionais 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 que fazer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, institucionais 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uem fará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e viabilidade econômico-financeira 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mo financiar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657360"/>
            <a:ext cx="856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OSTA DE ESTRUTURA E CONTEÚDO DO VOLUME 5: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53424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tivos estraté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retrizes e das m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ções e programas em and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ultados das consultas regiona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ultados da dinâmica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ções e os programas d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57360"/>
            <a:ext cx="856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OSTA DE ESTRUTURA E CONTEÚDO DO VOLUME 5: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2203560"/>
            <a:ext cx="433440" cy="288720"/>
          </a:xfrm>
          <a:custGeom>
            <a:avLst/>
            <a:gdLst/>
            <a:ahLst/>
            <a:rect l="l" t="t" r="r" b="b"/>
            <a:pathLst>
              <a:path w="1202" h="804">
                <a:moveTo>
                  <a:pt x="300" y="0"/>
                </a:moveTo>
                <a:lnTo>
                  <a:pt x="300" y="602"/>
                </a:lnTo>
                <a:lnTo>
                  <a:pt x="0" y="602"/>
                </a:lnTo>
                <a:lnTo>
                  <a:pt x="600" y="803"/>
                </a:lnTo>
                <a:lnTo>
                  <a:pt x="1201" y="602"/>
                </a:lnTo>
                <a:lnTo>
                  <a:pt x="900" y="602"/>
                </a:lnTo>
                <a:lnTo>
                  <a:pt x="900" y="0"/>
                </a:lnTo>
                <a:lnTo>
                  <a:pt x="300" y="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139920"/>
            <a:ext cx="433440" cy="289080"/>
          </a:xfrm>
          <a:custGeom>
            <a:avLst/>
            <a:gdLst/>
            <a:ahLst/>
            <a:rect l="l" t="t" r="r" b="b"/>
            <a:pathLst>
              <a:path w="1202" h="804">
                <a:moveTo>
                  <a:pt x="300" y="0"/>
                </a:moveTo>
                <a:lnTo>
                  <a:pt x="300" y="603"/>
                </a:lnTo>
                <a:lnTo>
                  <a:pt x="0" y="603"/>
                </a:lnTo>
                <a:lnTo>
                  <a:pt x="600" y="803"/>
                </a:lnTo>
                <a:lnTo>
                  <a:pt x="1201" y="603"/>
                </a:lnTo>
                <a:lnTo>
                  <a:pt x="900" y="603"/>
                </a:lnTo>
                <a:lnTo>
                  <a:pt x="900" y="0"/>
                </a:lnTo>
                <a:lnTo>
                  <a:pt x="300" y="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4003560"/>
            <a:ext cx="433440" cy="289080"/>
          </a:xfrm>
          <a:custGeom>
            <a:avLst/>
            <a:gdLst/>
            <a:ahLst/>
            <a:rect l="l" t="t" r="r" b="b"/>
            <a:pathLst>
              <a:path w="1202" h="804">
                <a:moveTo>
                  <a:pt x="300" y="0"/>
                </a:moveTo>
                <a:lnTo>
                  <a:pt x="300" y="603"/>
                </a:lnTo>
                <a:lnTo>
                  <a:pt x="0" y="603"/>
                </a:lnTo>
                <a:lnTo>
                  <a:pt x="600" y="803"/>
                </a:lnTo>
                <a:lnTo>
                  <a:pt x="1201" y="603"/>
                </a:lnTo>
                <a:lnTo>
                  <a:pt x="900" y="603"/>
                </a:lnTo>
                <a:lnTo>
                  <a:pt x="900" y="0"/>
                </a:lnTo>
                <a:lnTo>
                  <a:pt x="300" y="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4940280"/>
            <a:ext cx="433440" cy="289080"/>
          </a:xfrm>
          <a:custGeom>
            <a:avLst/>
            <a:gdLst/>
            <a:ahLst/>
            <a:rect l="l" t="t" r="r" b="b"/>
            <a:pathLst>
              <a:path w="1202" h="804">
                <a:moveTo>
                  <a:pt x="300" y="0"/>
                </a:moveTo>
                <a:lnTo>
                  <a:pt x="300" y="603"/>
                </a:lnTo>
                <a:lnTo>
                  <a:pt x="0" y="603"/>
                </a:lnTo>
                <a:lnTo>
                  <a:pt x="600" y="803"/>
                </a:lnTo>
                <a:lnTo>
                  <a:pt x="1201" y="603"/>
                </a:lnTo>
                <a:lnTo>
                  <a:pt x="900" y="603"/>
                </a:lnTo>
                <a:lnTo>
                  <a:pt x="900" y="0"/>
                </a:lnTo>
                <a:lnTo>
                  <a:pt x="300" y="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5877000"/>
            <a:ext cx="433440" cy="288720"/>
          </a:xfrm>
          <a:custGeom>
            <a:avLst/>
            <a:gdLst/>
            <a:ahLst/>
            <a:rect l="l" t="t" r="r" b="b"/>
            <a:pathLst>
              <a:path w="1202" h="804">
                <a:moveTo>
                  <a:pt x="300" y="0"/>
                </a:moveTo>
                <a:lnTo>
                  <a:pt x="300" y="602"/>
                </a:lnTo>
                <a:lnTo>
                  <a:pt x="0" y="602"/>
                </a:lnTo>
                <a:lnTo>
                  <a:pt x="600" y="803"/>
                </a:lnTo>
                <a:lnTo>
                  <a:pt x="1201" y="602"/>
                </a:lnTo>
                <a:lnTo>
                  <a:pt x="900" y="602"/>
                </a:lnTo>
                <a:lnTo>
                  <a:pt x="900" y="0"/>
                </a:lnTo>
                <a:lnTo>
                  <a:pt x="300" y="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512720" y="13842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3842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24000" y="657360"/>
            <a:ext cx="856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OSTA DE ESTRUTURA E CONTEÚDO DO VOLUME 5: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05000"/>
            <a:ext cx="864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posta para organização dos Progra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gramas Naciona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ociados a temas e questõe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stratégicas de abrangência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gramas Especia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ociados a (i) questões temática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ioritárias e; (ii) questões regionais em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cias e em áreas críticas ou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mbientalmente sensí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2852640"/>
            <a:ext cx="433440" cy="289080"/>
          </a:xfrm>
          <a:custGeom>
            <a:avLst/>
            <a:gdLst/>
            <a:ahLst/>
            <a:rect l="l" t="t" r="r" b="b"/>
            <a:pathLst>
              <a:path w="1202" h="804">
                <a:moveTo>
                  <a:pt x="0" y="200"/>
                </a:moveTo>
                <a:lnTo>
                  <a:pt x="900" y="200"/>
                </a:lnTo>
                <a:lnTo>
                  <a:pt x="900" y="0"/>
                </a:lnTo>
                <a:lnTo>
                  <a:pt x="1201" y="401"/>
                </a:lnTo>
                <a:lnTo>
                  <a:pt x="900" y="803"/>
                </a:lnTo>
                <a:lnTo>
                  <a:pt x="900" y="603"/>
                </a:lnTo>
                <a:lnTo>
                  <a:pt x="0" y="603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3933720"/>
            <a:ext cx="433440" cy="289080"/>
          </a:xfrm>
          <a:custGeom>
            <a:avLst/>
            <a:gdLst/>
            <a:ahLst/>
            <a:rect l="l" t="t" r="r" b="b"/>
            <a:pathLst>
              <a:path w="1202" h="804">
                <a:moveTo>
                  <a:pt x="0" y="200"/>
                </a:moveTo>
                <a:lnTo>
                  <a:pt x="900" y="200"/>
                </a:lnTo>
                <a:lnTo>
                  <a:pt x="900" y="0"/>
                </a:lnTo>
                <a:lnTo>
                  <a:pt x="1201" y="401"/>
                </a:lnTo>
                <a:lnTo>
                  <a:pt x="900" y="803"/>
                </a:lnTo>
                <a:lnTo>
                  <a:pt x="900" y="603"/>
                </a:lnTo>
                <a:lnTo>
                  <a:pt x="0" y="603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2092320"/>
            <a:ext cx="88567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. ARRANJO INSTITUCIONAL PARA A IMPLEMENTAÇÃO DOS PROGRAMAS DO PNRH E MECANISMOS DE FINANC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stentabilidade institucional 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uem fará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- identificação dos arranjos institucionais necessários e as respectivas entidades ou órgãos responsáveis pelo desenvolvimento de cada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stentabilidade econômico-financeira 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mo financiar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- identificação de parcerias e potenciais linhas de financiamento, incluindo a cobrança pelo uso dos recursos hídricos e a adequação às carteiras dos diversos agentes de fomento e às previsões do P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47560"/>
            <a:ext cx="856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OSTA DE ESTRUTURA E CONTEÚDO DO VOLUME 5: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57360"/>
            <a:ext cx="914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5. INDICADORES DE ACOMPANHAMENTO E AVALIAÇÃO DE DESEMPENHO DO PLANO NACIONAL DE RECURSOS HÍD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canismos de acompanhamento e avaliação de desempenho da implementação do PNRH - construção de um conjunto de indicadores, referenciados aos objetivos estratégicos do Pl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mpre que possível, serão traduzidos em termos numéricos, devendo demonstrar entre outros aspectos, a melhoria da oferta de água em qualidade em quantidade, a redução do quadro atual de degradação das águas e da qualidade de vida das populações e o funcionamento do SINGRE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ois grandes grupos: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vertical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- trata de um controle formal do Plano, com indicadores capazes de aferir o atendimento dos objetivos e metas contidas nos Programas do PNRH e; (ii)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horizontal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, trata do controle social do Plano, não só no sentido de aferir o alcance de benefícios mensuráve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strução dos indicadores - esforços, em andamento, na CTIL e experiências de sucesso na definição de indicadores em outros planos e programas já implant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474480"/>
            <a:ext cx="856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POSTA DE ESTRUTURA E CONTEÚDO DO VOLUME 5: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591840"/>
            <a:ext cx="8569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POSTA DE ESTRUTURA E CONTEÚDO DO VOLUME 5: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7280" y="2349360"/>
            <a:ext cx="8856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6. ATUALIZAÇÕE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aracterística de processo incorporada ao PNRH e com base nos indicadores, deverão ser previstas atualizações perió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7. CONSIDERAÇÕES FI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Inter-relação com alcance dos objetivos estratégicos pretendidos, com a proposta de solução dos problemas identificados e com a superação dos desafios diagnost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1773360"/>
            <a:ext cx="849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O real não está nem na chegada nem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ída. Ele se dispõe pra gente no meio da travessi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uimarães 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i.bh@terra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1920" y="90648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RUTURA E CONTEÚDO DOS VOLUMES 4 E 5 DO PNRH: DIRETRIZES, METAS E PROGRAM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916280"/>
            <a:ext cx="813564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NTRODUÇÃO E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LEMENTOS PARA A DEFINIÇÃO DAS DIRETRIZES, METAS E PRO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ROPOSTA DE ESTRUTURA E CONTEÚDO DO VOLUME 4: DIRETRIZES E M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ROPOSTA DE ESTRUTURA E CONTEÚDO DO VOLUME 5: PRO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92280"/>
            <a:ext cx="85690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cumentos de Referência para Definição das Diretrizes, Metas 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cumento “Definição dos Limites de Abrangência do Escopo do Plano Nacional de Recursos Hídricos” - debatido pela CTPNRH em junho e julho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dernos Setor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dernos Reg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lumes 1 e 2 (análise diagnóst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álise prospectiva (Volume 3 – Cená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nâmicas regionais  e resultados dos Encontros Públicos Estad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84360" y="1773360"/>
            <a:ext cx="7846920" cy="4319640"/>
            <a:chOff x="684360" y="1773360"/>
            <a:chExt cx="7846920" cy="4319640"/>
          </a:xfrm>
        </p:grpSpPr>
        <p:sp>
          <p:nvSpPr>
            <p:cNvPr id="47" name=""/>
            <p:cNvSpPr/>
            <p:nvPr/>
          </p:nvSpPr>
          <p:spPr>
            <a:xfrm>
              <a:off x="684360" y="1773360"/>
              <a:ext cx="7846920" cy="43196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000" y="1888920"/>
              <a:ext cx="2739240" cy="916920"/>
            </a:xfrm>
            <a:custGeom>
              <a:avLst/>
              <a:gdLst/>
              <a:ahLst/>
              <a:rect l="l" t="t" r="r" b="b"/>
              <a:pathLst>
                <a:path w="7610" h="2547">
                  <a:moveTo>
                    <a:pt x="5342" y="1909"/>
                  </a:moveTo>
                  <a:lnTo>
                    <a:pt x="5089" y="1889"/>
                  </a:lnTo>
                  <a:lnTo>
                    <a:pt x="4835" y="1875"/>
                  </a:lnTo>
                  <a:lnTo>
                    <a:pt x="4579" y="1869"/>
                  </a:lnTo>
                  <a:lnTo>
                    <a:pt x="4323" y="1872"/>
                  </a:lnTo>
                  <a:lnTo>
                    <a:pt x="4067" y="1882"/>
                  </a:lnTo>
                  <a:lnTo>
                    <a:pt x="3812" y="1900"/>
                  </a:lnTo>
                  <a:lnTo>
                    <a:pt x="3562" y="1925"/>
                  </a:lnTo>
                  <a:lnTo>
                    <a:pt x="3312" y="1957"/>
                  </a:lnTo>
                  <a:lnTo>
                    <a:pt x="3067" y="1997"/>
                  </a:lnTo>
                  <a:lnTo>
                    <a:pt x="2826" y="2045"/>
                  </a:lnTo>
                  <a:lnTo>
                    <a:pt x="2589" y="2100"/>
                  </a:lnTo>
                  <a:lnTo>
                    <a:pt x="2359" y="2161"/>
                  </a:lnTo>
                  <a:lnTo>
                    <a:pt x="2136" y="2229"/>
                  </a:lnTo>
                  <a:lnTo>
                    <a:pt x="1920" y="2305"/>
                  </a:lnTo>
                  <a:lnTo>
                    <a:pt x="1711" y="2386"/>
                  </a:lnTo>
                  <a:lnTo>
                    <a:pt x="1510" y="2473"/>
                  </a:lnTo>
                  <a:lnTo>
                    <a:pt x="0" y="1485"/>
                  </a:lnTo>
                  <a:lnTo>
                    <a:pt x="301" y="1353"/>
                  </a:lnTo>
                  <a:lnTo>
                    <a:pt x="614" y="1230"/>
                  </a:lnTo>
                  <a:lnTo>
                    <a:pt x="939" y="1118"/>
                  </a:lnTo>
                  <a:lnTo>
                    <a:pt x="1275" y="1015"/>
                  </a:lnTo>
                  <a:lnTo>
                    <a:pt x="1621" y="923"/>
                  </a:lnTo>
                  <a:lnTo>
                    <a:pt x="1974" y="841"/>
                  </a:lnTo>
                  <a:lnTo>
                    <a:pt x="2337" y="769"/>
                  </a:lnTo>
                  <a:lnTo>
                    <a:pt x="2704" y="709"/>
                  </a:lnTo>
                  <a:lnTo>
                    <a:pt x="3077" y="660"/>
                  </a:lnTo>
                  <a:lnTo>
                    <a:pt x="3456" y="622"/>
                  </a:lnTo>
                  <a:lnTo>
                    <a:pt x="3837" y="596"/>
                  </a:lnTo>
                  <a:lnTo>
                    <a:pt x="4221" y="581"/>
                  </a:lnTo>
                  <a:lnTo>
                    <a:pt x="4605" y="577"/>
                  </a:lnTo>
                  <a:lnTo>
                    <a:pt x="4989" y="586"/>
                  </a:lnTo>
                  <a:lnTo>
                    <a:pt x="5371" y="605"/>
                  </a:lnTo>
                  <a:lnTo>
                    <a:pt x="5752" y="636"/>
                  </a:lnTo>
                  <a:lnTo>
                    <a:pt x="5956" y="0"/>
                  </a:lnTo>
                  <a:lnTo>
                    <a:pt x="7609" y="1705"/>
                  </a:lnTo>
                  <a:lnTo>
                    <a:pt x="5139" y="2546"/>
                  </a:lnTo>
                  <a:lnTo>
                    <a:pt x="5342" y="1909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74440" y="3912480"/>
              <a:ext cx="1564920" cy="1289880"/>
            </a:xfrm>
            <a:custGeom>
              <a:avLst/>
              <a:gdLst/>
              <a:ahLst/>
              <a:rect l="l" t="t" r="r" b="b"/>
              <a:pathLst>
                <a:path w="4348" h="3583">
                  <a:moveTo>
                    <a:pt x="902" y="2335"/>
                  </a:moveTo>
                  <a:lnTo>
                    <a:pt x="1059" y="2225"/>
                  </a:lnTo>
                  <a:lnTo>
                    <a:pt x="1208" y="2110"/>
                  </a:lnTo>
                  <a:lnTo>
                    <a:pt x="1344" y="1990"/>
                  </a:lnTo>
                  <a:lnTo>
                    <a:pt x="1469" y="1868"/>
                  </a:lnTo>
                  <a:lnTo>
                    <a:pt x="1581" y="1741"/>
                  </a:lnTo>
                  <a:lnTo>
                    <a:pt x="1680" y="1610"/>
                  </a:lnTo>
                  <a:lnTo>
                    <a:pt x="1767" y="1478"/>
                  </a:lnTo>
                  <a:lnTo>
                    <a:pt x="1841" y="1344"/>
                  </a:lnTo>
                  <a:lnTo>
                    <a:pt x="1898" y="1206"/>
                  </a:lnTo>
                  <a:lnTo>
                    <a:pt x="1946" y="1067"/>
                  </a:lnTo>
                  <a:lnTo>
                    <a:pt x="1978" y="928"/>
                  </a:lnTo>
                  <a:lnTo>
                    <a:pt x="1997" y="787"/>
                  </a:lnTo>
                  <a:lnTo>
                    <a:pt x="2000" y="646"/>
                  </a:lnTo>
                  <a:lnTo>
                    <a:pt x="1990" y="505"/>
                  </a:lnTo>
                  <a:lnTo>
                    <a:pt x="1967" y="364"/>
                  </a:lnTo>
                  <a:lnTo>
                    <a:pt x="1929" y="225"/>
                  </a:lnTo>
                  <a:lnTo>
                    <a:pt x="4240" y="0"/>
                  </a:lnTo>
                  <a:lnTo>
                    <a:pt x="4296" y="209"/>
                  </a:lnTo>
                  <a:lnTo>
                    <a:pt x="4330" y="420"/>
                  </a:lnTo>
                  <a:lnTo>
                    <a:pt x="4347" y="631"/>
                  </a:lnTo>
                  <a:lnTo>
                    <a:pt x="4341" y="843"/>
                  </a:lnTo>
                  <a:lnTo>
                    <a:pt x="4313" y="1054"/>
                  </a:lnTo>
                  <a:lnTo>
                    <a:pt x="4266" y="1263"/>
                  </a:lnTo>
                  <a:lnTo>
                    <a:pt x="4197" y="1472"/>
                  </a:lnTo>
                  <a:lnTo>
                    <a:pt x="4107" y="1677"/>
                  </a:lnTo>
                  <a:lnTo>
                    <a:pt x="3998" y="1880"/>
                  </a:lnTo>
                  <a:lnTo>
                    <a:pt x="3868" y="2079"/>
                  </a:lnTo>
                  <a:lnTo>
                    <a:pt x="3720" y="2273"/>
                  </a:lnTo>
                  <a:lnTo>
                    <a:pt x="3550" y="2465"/>
                  </a:lnTo>
                  <a:lnTo>
                    <a:pt x="3365" y="2649"/>
                  </a:lnTo>
                  <a:lnTo>
                    <a:pt x="3159" y="2829"/>
                  </a:lnTo>
                  <a:lnTo>
                    <a:pt x="2938" y="3001"/>
                  </a:lnTo>
                  <a:lnTo>
                    <a:pt x="2699" y="3167"/>
                  </a:lnTo>
                  <a:lnTo>
                    <a:pt x="3597" y="3582"/>
                  </a:lnTo>
                  <a:lnTo>
                    <a:pt x="89" y="3518"/>
                  </a:lnTo>
                  <a:lnTo>
                    <a:pt x="0" y="1920"/>
                  </a:lnTo>
                  <a:lnTo>
                    <a:pt x="902" y="2335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34720" y="4120200"/>
              <a:ext cx="2201040" cy="1345320"/>
            </a:xfrm>
            <a:custGeom>
              <a:avLst/>
              <a:gdLst/>
              <a:ahLst/>
              <a:rect l="l" t="t" r="r" b="b"/>
              <a:pathLst>
                <a:path w="6116" h="3739">
                  <a:moveTo>
                    <a:pt x="3310" y="979"/>
                  </a:moveTo>
                  <a:lnTo>
                    <a:pt x="3405" y="1110"/>
                  </a:lnTo>
                  <a:lnTo>
                    <a:pt x="3510" y="1237"/>
                  </a:lnTo>
                  <a:lnTo>
                    <a:pt x="3630" y="1363"/>
                  </a:lnTo>
                  <a:lnTo>
                    <a:pt x="3761" y="1483"/>
                  </a:lnTo>
                  <a:lnTo>
                    <a:pt x="3905" y="1600"/>
                  </a:lnTo>
                  <a:lnTo>
                    <a:pt x="4060" y="1712"/>
                  </a:lnTo>
                  <a:lnTo>
                    <a:pt x="4225" y="1820"/>
                  </a:lnTo>
                  <a:lnTo>
                    <a:pt x="4399" y="1922"/>
                  </a:lnTo>
                  <a:lnTo>
                    <a:pt x="4588" y="2019"/>
                  </a:lnTo>
                  <a:lnTo>
                    <a:pt x="4782" y="2111"/>
                  </a:lnTo>
                  <a:lnTo>
                    <a:pt x="4986" y="2195"/>
                  </a:lnTo>
                  <a:lnTo>
                    <a:pt x="5197" y="2275"/>
                  </a:lnTo>
                  <a:lnTo>
                    <a:pt x="5418" y="2348"/>
                  </a:lnTo>
                  <a:lnTo>
                    <a:pt x="5645" y="2413"/>
                  </a:lnTo>
                  <a:lnTo>
                    <a:pt x="5877" y="2472"/>
                  </a:lnTo>
                  <a:lnTo>
                    <a:pt x="6115" y="2524"/>
                  </a:lnTo>
                  <a:lnTo>
                    <a:pt x="5313" y="3738"/>
                  </a:lnTo>
                  <a:lnTo>
                    <a:pt x="4956" y="3660"/>
                  </a:lnTo>
                  <a:lnTo>
                    <a:pt x="4609" y="3571"/>
                  </a:lnTo>
                  <a:lnTo>
                    <a:pt x="4266" y="3473"/>
                  </a:lnTo>
                  <a:lnTo>
                    <a:pt x="3937" y="3365"/>
                  </a:lnTo>
                  <a:lnTo>
                    <a:pt x="3619" y="3246"/>
                  </a:lnTo>
                  <a:lnTo>
                    <a:pt x="3313" y="3119"/>
                  </a:lnTo>
                  <a:lnTo>
                    <a:pt x="3019" y="2981"/>
                  </a:lnTo>
                  <a:lnTo>
                    <a:pt x="2742" y="2836"/>
                  </a:lnTo>
                  <a:lnTo>
                    <a:pt x="2478" y="2683"/>
                  </a:lnTo>
                  <a:lnTo>
                    <a:pt x="2228" y="2522"/>
                  </a:lnTo>
                  <a:lnTo>
                    <a:pt x="1997" y="2353"/>
                  </a:lnTo>
                  <a:lnTo>
                    <a:pt x="1782" y="2177"/>
                  </a:lnTo>
                  <a:lnTo>
                    <a:pt x="1583" y="1996"/>
                  </a:lnTo>
                  <a:lnTo>
                    <a:pt x="1405" y="1809"/>
                  </a:lnTo>
                  <a:lnTo>
                    <a:pt x="1244" y="1617"/>
                  </a:lnTo>
                  <a:lnTo>
                    <a:pt x="1102" y="1420"/>
                  </a:lnTo>
                  <a:lnTo>
                    <a:pt x="0" y="1641"/>
                  </a:lnTo>
                  <a:lnTo>
                    <a:pt x="1855" y="0"/>
                  </a:lnTo>
                  <a:lnTo>
                    <a:pt x="4413" y="757"/>
                  </a:lnTo>
                  <a:lnTo>
                    <a:pt x="3310" y="979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996520" y="2607840"/>
              <a:ext cx="2032920" cy="1118520"/>
              <a:chOff x="5996520" y="2607840"/>
              <a:chExt cx="2032920" cy="1118520"/>
            </a:xfrm>
          </p:grpSpPr>
          <p:sp>
            <p:nvSpPr>
              <p:cNvPr id="52" name=""/>
              <p:cNvSpPr/>
              <p:nvPr/>
            </p:nvSpPr>
            <p:spPr>
              <a:xfrm>
                <a:off x="5996520" y="2607840"/>
                <a:ext cx="2032920" cy="111852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96520" y="2607840"/>
                <a:ext cx="2032920" cy="111852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Verdana"/>
                  </a:rPr>
                  <a:t>Visão de process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(dimensões temporal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e espacial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594960" y="4904280"/>
              <a:ext cx="2032920" cy="1118520"/>
              <a:chOff x="3594960" y="4904280"/>
              <a:chExt cx="2032920" cy="1118520"/>
            </a:xfrm>
          </p:grpSpPr>
          <p:sp>
            <p:nvSpPr>
              <p:cNvPr id="55" name=""/>
              <p:cNvSpPr/>
              <p:nvPr/>
            </p:nvSpPr>
            <p:spPr>
              <a:xfrm>
                <a:off x="3594960" y="4904280"/>
                <a:ext cx="2032920" cy="111852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594960" y="4904280"/>
                <a:ext cx="2032920" cy="111852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Verdana"/>
                  </a:rPr>
                  <a:t>Sustentabilidad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1184040" y="2609640"/>
              <a:ext cx="2032920" cy="1118160"/>
              <a:chOff x="1184040" y="2609640"/>
              <a:chExt cx="2032920" cy="1118160"/>
            </a:xfrm>
          </p:grpSpPr>
          <p:sp>
            <p:nvSpPr>
              <p:cNvPr id="58" name=""/>
              <p:cNvSpPr/>
              <p:nvPr/>
            </p:nvSpPr>
            <p:spPr>
              <a:xfrm>
                <a:off x="1184040" y="2609640"/>
                <a:ext cx="2032920" cy="11181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84040" y="2609640"/>
                <a:ext cx="2032920" cy="11181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Verdana"/>
                  </a:rPr>
                  <a:t>Caráter dinâmic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(interação com outro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instrumentos de planejamento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1274400" y="6093000"/>
            <a:ext cx="5693760" cy="46044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no Nacional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9680" y="777960"/>
            <a:ext cx="8734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OS PARA DEFINIÇÃO DAS DIRETRIZES, METAS E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776160"/>
            <a:ext cx="8713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LEMENTOS PARA DEFINIÇÃO DAS DIRETRIZES, METAS E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s níveis de análise do 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 56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Divisão Hidrográfica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consolidação para todo o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 Situações Especiais de Planej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50920" y="5740560"/>
            <a:ext cx="8638920" cy="525600"/>
            <a:chOff x="250920" y="5740560"/>
            <a:chExt cx="8638920" cy="525600"/>
          </a:xfrm>
        </p:grpSpPr>
        <p:sp>
          <p:nvSpPr>
            <p:cNvPr id="64" name=""/>
            <p:cNvSpPr/>
            <p:nvPr/>
          </p:nvSpPr>
          <p:spPr>
            <a:xfrm>
              <a:off x="250920" y="5740560"/>
              <a:ext cx="8638920" cy="525600"/>
            </a:xfrm>
            <a:prstGeom prst="roundRect">
              <a:avLst>
                <a:gd name="adj" fmla="val 301"/>
              </a:avLst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0920" y="5740560"/>
              <a:ext cx="863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Verdana"/>
                </a:rPr>
                <a:t>Extraído do Documento “Definição dos Limites de Abrangência do Escopo do Plano Nacional de Recursos Hídricos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620640"/>
            <a:ext cx="87138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LEMENTOS PARA DEFINIÇÃO DAS DIRETRIZES, METAS E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s vertentes de aná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       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vertical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questões resultantes da 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ação do âmbito regional para todo o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ís (destacados os temas e questõe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gionais de importância nacional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Nacional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inha 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</a:rPr>
              <a:t>horizontal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- agrega a análise de temas 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questões de pertinência 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transversal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fornece element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tados para a incorporação efetiva d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nicípios ao processo de gestão da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ág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Reg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mas e questões servirão de subsídio para o desenvolvimento futuro de Planos de Recursos Hídricos de Bacias hidrográficas e de Planos Estaduais de Recursos Hídr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50920" y="6093000"/>
            <a:ext cx="8640720" cy="525600"/>
            <a:chOff x="250920" y="6093000"/>
            <a:chExt cx="8640720" cy="525600"/>
          </a:xfrm>
        </p:grpSpPr>
        <p:sp>
          <p:nvSpPr>
            <p:cNvPr id="68" name=""/>
            <p:cNvSpPr/>
            <p:nvPr/>
          </p:nvSpPr>
          <p:spPr>
            <a:xfrm>
              <a:off x="250920" y="6093000"/>
              <a:ext cx="8640720" cy="525600"/>
            </a:xfrm>
            <a:prstGeom prst="roundRect">
              <a:avLst>
                <a:gd name="adj" fmla="val 301"/>
              </a:avLst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0920" y="6093000"/>
              <a:ext cx="864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Verdana"/>
                </a:rPr>
                <a:t>Extraído do Documento “Definição dos Limites de Abrangência do Escopo do Plano Nacional de Recursos Hídricos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763640" y="3645000"/>
            <a:ext cx="576360" cy="1079280"/>
          </a:xfrm>
          <a:custGeom>
            <a:avLst/>
            <a:gdLst/>
            <a:ahLst/>
            <a:rect l="l" t="t" r="r" b="b"/>
            <a:pathLst>
              <a:path w="1601" h="3000">
                <a:moveTo>
                  <a:pt x="0" y="597"/>
                </a:moveTo>
                <a:lnTo>
                  <a:pt x="800" y="0"/>
                </a:lnTo>
                <a:lnTo>
                  <a:pt x="1600" y="597"/>
                </a:lnTo>
                <a:lnTo>
                  <a:pt x="1200" y="597"/>
                </a:lnTo>
                <a:lnTo>
                  <a:pt x="1200" y="2401"/>
                </a:lnTo>
                <a:lnTo>
                  <a:pt x="1600" y="2401"/>
                </a:lnTo>
                <a:lnTo>
                  <a:pt x="800" y="2999"/>
                </a:lnTo>
                <a:lnTo>
                  <a:pt x="0" y="2401"/>
                </a:lnTo>
                <a:lnTo>
                  <a:pt x="400" y="2401"/>
                </a:lnTo>
                <a:lnTo>
                  <a:pt x="400" y="597"/>
                </a:lnTo>
                <a:lnTo>
                  <a:pt x="0" y="597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59280" y="2205000"/>
            <a:ext cx="0" cy="28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5013360"/>
            <a:ext cx="129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2205000"/>
            <a:ext cx="1297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3284640"/>
            <a:ext cx="720720" cy="28872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3"/>
                </a:lnTo>
                <a:lnTo>
                  <a:pt x="0" y="603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5013360"/>
            <a:ext cx="720720" cy="28872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76536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OSTA DE ESTRUTURA E CONTEÚDO DO VOLUME 4: DIRETRIZES E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882800"/>
            <a:ext cx="8893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1. 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extualiza o desenvolvimento do Volume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2. PREMISSAS E ASPECTOS METODOLÓGICOS PARA O ESTABELECIMENTO DE DIRETRIZES E M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Apresenta as informações, os fundamentos e as bases conceituais utilizados para o estabelecimento das diretrizes e metas d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3. UMA VISÃO DE FUTURO PARA OS RECURSOS HÍDRICOS BRASIL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istematiza a relação existente entre os cenários estabelecidos e a definição das estratégias do P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860480"/>
            <a:ext cx="87138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. OBJETIVOS ESTRATÉ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Representam o que se pretende alcançar com a implementação d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jetivo geral do PNRH - “estabelecer um pacto nacional para a definição de diretrizes e políticas públicas, voltadas para a melhoria da oferta de água, em qualidade e quantidade, gerenciando as demandas e considerando ser a água um elemento estruturante para a implementação das políticas setoriais, sob a ótica do desenvolvimento sustentável e da inclusão soc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5. DIRETRIZ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struções que norteiam o estabelecimento das ações para se alcançar os objetivos do Plan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72108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OSTA DE ESTRUTURA E CONTEÚDO DO VOLUME 4: DIRETRIZES E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1280" y="2120040"/>
            <a:ext cx="89647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Temáticas a serem abordadas nas Estratégias do Plano organizadas em 9 Componentes: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erção global e macrorregio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iculação entre os órgãos e entidades da União com aqueles das Unidades da Federação e articulação entre as entidades colegiadas do SINGRE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ções da política de recursos hídricos com outras políticas públicas correlat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ções da política de recursos hídricos com as políticas dos setores intervenien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das e necessidades de aperfeiçoamento na implementação da Política Nacional de Recursos Hídricos (implementação dos instrumentos da Política e atuação dos entes do SINGRE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ão da demanda e da oferta de águ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ão de confli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ão em áreas sujeitas à eventos hidrológicos crí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ansão e consolidação do conhecimento sobre os recursos híd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695880"/>
            <a:ext cx="896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OSTA DE ESTRUTURA E CONTEÚDO DO VOLUME 4: DIRETRIZES E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o Neves</cp:lastModifiedBy>
  <dcterms:modified xsi:type="dcterms:W3CDTF">2005-10-06T12:59:32Z</dcterms:modified>
  <cp:revision>7</cp:revision>
  <dc:subject/>
  <dc:title>Slide 1</dc:title>
</cp:coreProperties>
</file>